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C91-AA53-4764-866F-EC8FDAE2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5EA-C3D2-4621-9C22-3643AA91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474F0-6FF1-4E70-AFCC-AF1613E3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7FBB7-1E09-458A-A545-9976EDD4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906E5-A96E-47C3-87D3-872271EB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7AB56-42E3-4630-B92C-75E361C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6AEAF-323D-4A13-BFD4-37A8E12D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CBE1A-D295-417F-93E1-50558BC7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C00DC-1E37-4345-84D2-43386FB5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C7425-0B5F-4DE1-9916-29ED4865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4B289-559D-428B-BC88-7491F766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373F1-E24A-4F31-9F26-AF6A6862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548-39C9-4503-89BB-B0F5938C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A1DCB-454C-4522-92C6-3645786E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36638-37B3-4403-A040-C6B7196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17AB6-A3B2-41D8-8704-A337C611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D3825-3832-4F89-92A8-CF981BE4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E3C87-7F80-48BC-9F70-5FF3BF88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DC853-616E-4F69-B112-FAD71120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E89FC-08C8-47CF-80E9-DCD7DE54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80A5D-B69B-43F4-876E-0FDE824D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90F96-ED73-4B49-B796-074586EC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0DE14-6366-4D5B-9CBC-21729BEF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26D-C95A-4812-945D-11348759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C583E-A177-42E7-B370-981EA946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34DDE-8F7C-40B2-8C14-E45A1546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E60E3-F277-4F44-822C-BCF5A11D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D465E-0EAE-436E-823C-805019E9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5E045-4984-494C-9C67-F76ACB1C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D4335-ECA8-4BAC-8A74-2B62FD1B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AE19E-0A4E-432A-A195-268B71B1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F439E-2A57-4F82-BC37-CBA391D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B3F6D-2D5F-4BC0-AC82-8F1B100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3C640-4859-4262-BE0D-B846DF3E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627C-8E3E-45AD-9F8B-F7A50924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088A8-FA77-437F-8673-53BB5A3C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D298-CB3D-4EED-9FE4-9B5ED9E8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C2055-A8AD-4DC1-8BB8-F98B7008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1FD0A-C1CD-4C13-82D4-4B95C067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9E836-D44B-4B1E-A65D-438BA38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B7E76-515D-4F47-B08C-CC252679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88A93-4572-44B5-8FAF-8C4460BB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5296C-6AAE-433A-BC67-AFEF7E12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93258-F54E-4BE1-A5F2-50F638DE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406F0-6F64-4500-AFCC-46712155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1AF5-9928-458E-8DDA-FE59984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A3C7B-A1B3-4B4B-B366-2637CC01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1D3F3-F715-436E-860D-DE8261CB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50AD6-F83C-4A76-B060-A33504CA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1886B-FF56-4059-BD9E-9C686A7F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8E068-FDE1-428D-A6E6-B0E01BB7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167F8-57AA-4EBB-BDC6-9E70386D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28649-373F-41A5-8A46-91B8CB48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8817B-4BA1-4639-A37B-B2865B40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22DEF-FC8D-4F69-8BD5-74182F72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EB7C2-B8D4-4779-900E-F851CFCA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E3A2-E5E4-4F5A-BE31-09E35EE9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09B56-A66A-4499-A3AB-D2AFE7D1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4F7FF-347E-4D90-B3EF-ACAC0D4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138A2-4703-4D42-B506-6E37C39F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618B5-976F-4258-ABE4-7E3B1C3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7A29D-91C8-4BEC-92CF-E2518D61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76E91-A4FA-4258-9D6E-A05B2AC8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B8F30-E7A4-47AB-95B5-41908F37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5B76D-4B81-48E9-A3BF-ECB25DE6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8BB8A-7296-43DB-BA91-EB0C50F3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9AA6A-C19B-4BAD-A9DA-D2D3BE40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70A8-ED72-40BA-9384-09C5C48A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861C4-90F1-4142-9FF2-B8082872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ABA54-38F4-4F3B-A547-C647315C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3EE55-31AE-4460-B3BC-2639481C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CA2F6-BF2F-4EDF-B082-2A3849B3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60943-5F76-4C76-9897-917E5FE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3EFF1-CE82-4932-A00F-CE66C76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00CA5-4E45-4B05-B234-E4FDA9A6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56BEC-AF38-4D08-A786-4812E54D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4E2F3-1394-4952-B118-932641FD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C8E66-73FC-457B-8EC4-D23E29CF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516F-70CB-4BED-92C9-F4E6E27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5FC84-896C-4428-95D4-E1117C5E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D5DB5-362B-4B8C-9A9B-792690E6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67BDD-C8AA-4EF8-99CB-2317F3B2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68ACD-60B8-4F4E-9683-680F8470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D0278-B82D-4E87-A1EE-35C44562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840EA-2B23-4AB2-BAC3-7106911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F5CAD-6A93-4DE2-A713-AD2E58B1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E5F49-899F-487B-BDF8-4FA3D53F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E7DC3-C97A-4B06-9976-99B40631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28211-EB08-4B21-8C72-56277B68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E8F9-E7B6-4807-8944-002802F0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D315A-9455-469E-AF99-8012F3D6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AE0AF-708E-4C8C-893C-04AA5A44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3A9EC-3C41-46B0-B02A-F045EA05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87B99C-0101-4B89-85BF-634C055E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6321B-BDD2-4C6B-8149-E0B9A345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1C8AE-2310-4A57-A961-DE60B88F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A5FB9-87CA-42C4-8A00-AAC49AF0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40D0E-86DC-4AAE-B8E1-566B6FC6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1437E-5AEF-4BB7-9567-0726B81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C2AE0-9A53-4A14-B87D-67909BF4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8B4F-2C98-4F13-9350-C20CEC6D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CCB53-4A93-4EAB-ABF0-82F2AEC3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D6DAF-6636-4E45-878E-BAABEBFA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EE89D-621E-405A-ABBA-A7547E5E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DFDA4-F161-4B2D-AD54-11B40E4D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06E58-0CA3-4D26-B9A3-28698329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A5268-1067-48C6-A4A7-205B32C0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72B01-262E-46B4-9E45-D4590BC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08A12-039A-472C-8EB4-4C940BA2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33A8A-7143-41D9-AD4C-87D4CCA2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528BE-0053-43C7-8663-ED53284B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850-0F9B-45B4-A415-03A65E33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8A25-7AF2-44AA-AFB4-1FB79910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C51910-09E8-4D28-AE1A-351E7407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756EC-B93B-43DC-BA0F-4ADFC34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EDD45-0195-47CB-AAC7-F3EF0B04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39E01-2BC5-4AB9-8A99-3D0005EA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F72FD-7FB1-40C3-828C-FE138969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6D449-27FC-4438-9644-62B2F824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AB4B1-C595-4F36-8194-2A3A927C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BB8CB-0B04-402E-A962-4C0E0216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C7019-E9D2-435A-8DB2-E9B14DC8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41FCB-0D4D-4DD4-9E23-C66BBDAA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F7B9-F56D-4D07-BB1B-AD1EFCA8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280E2-9253-4267-856D-A5EBC14D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DF428-FDE2-4BC5-BC82-4E255131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5FFA5-0AF4-40C4-AAD0-0446DDC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365F0-FED2-4106-BA16-66BBE901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606199-E1D1-41DB-855D-95E2EA95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16928-265E-4555-8861-ECA4416B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FD8D9-6390-410F-9648-60F3E709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2DA42-2289-4D7B-9586-67505FA1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B36E7-BD08-4F57-A6B2-1E26FF1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F66A07-E2CE-4CF7-B53D-6E01A0E2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89D5-AEC8-44DE-9EE1-FF491CC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5A0A4-21C4-4781-836A-D66BF791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4A3C2-E03C-4E73-A12E-40F77B6A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817708-0ECD-4073-AD70-636BF96D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449E4-B730-4E89-BEA3-A573F156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9C430-1EC7-499C-B440-1587A427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5E813-A683-4985-A17E-2E224DD9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601B5-1176-4D88-96EA-B4B1E482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B6D90-9B53-4F9D-8909-4D7D8734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A67F2-595C-401A-A92D-EA17E796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78D8AA-6486-4EF2-8974-0C6D0FBC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E6F6-5B35-4F27-8E29-7475472C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96C10B-A1F7-4E18-854B-25FC0048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D75F6-33EF-4361-B0BF-8FB34F8C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88CDFA-00D6-446A-8309-B9196AD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C96F8A-985F-45E2-B6BF-6BB2A7D5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61EB1-E61C-4546-9625-A598D8EA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E0711-8978-41C9-B99C-2B4D6FC5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00167-045E-457E-91C3-F63E466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BCE64-E9E3-41F4-8ACE-27BDF5A4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17A94-CE85-4222-8250-041A8CF8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03B3D-75D0-43E3-A334-C2CCA2D7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F046-00E3-411A-9A03-15AE6223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FB5A5-AE76-4F93-87A3-EA9EF455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84D4CA-CC0B-4CC3-A8D6-2CEB6F2A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34CDB-96BC-4B78-B094-2382EDAE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D210B0-2627-421C-813E-CEE7E706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F7E421-7940-4F7D-BA4B-060BA858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218B5-55E7-45EE-AFA0-295FF942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AC9AAD-D391-4244-9CF1-CAF1E963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EBF70-B1B3-45EA-ACA7-F4058318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293F0A-5BAD-4391-96FC-627DCD73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6C546-F1F7-43E0-934C-28A1559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2C48-DE1D-4F17-8247-9EDADCDC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BAF02-725D-4102-858A-4B4C1F7F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5DE0E0-88A4-4A82-9737-D7192CE8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4ECCC7-B88C-4574-ABF7-EDFE2F90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1EEFAC-66CE-41C3-8D6E-C3C72190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C44F5A-D900-40EA-B902-3D71152F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C33BBB-78CA-4AE4-BBA5-D8B17A15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3F221D-4CD7-4633-A1CB-7D16A5AC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646A9-7843-459F-8B3F-E89DBB1E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BB2646-5385-4B51-ACF6-1A38341A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A8C12F-E1F8-4404-BA28-EC24EA94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7A295-829E-4E12-B294-21242350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1BFC0D-3E82-4BD6-B660-DF85EC1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54FDF7-2253-4DEC-8F3F-6674456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74A0E1-13F0-4320-95CA-41CB9A04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0AFE2F-1291-4AB0-B651-D2FA4AD2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20CEB3-183E-46F9-A277-9F4CAD1E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C9B56D-B351-471D-8CCB-B44629FC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AF7FF-9A3F-47C0-886C-971C90C1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88AC38-063E-46F8-B12F-42413D7A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8EEE52-D9AE-40B1-AA08-B0B5E166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2ED309-0E30-41A8-AFBC-3BC2BE02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8F8E-8127-44C5-97DD-A471FC25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6BE43-6A97-48CB-9F87-75574A50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B674C7-1835-4D02-AB44-CE9C54CE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C87F32-16E9-4E3F-9CED-EA68D22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65520C-AFA6-45AF-8698-F02E44E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DFA450-BA1C-446E-A930-5E2BDBAD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5F2A62-5891-4C95-99A9-90C745D9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0F76FD-1446-4D5B-8B70-5A220908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2756-484A-4A20-977A-94114AF8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CFE6-45A9-4EF4-B35D-F61B68A3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AD9-9A60-40C0-85CE-C1AC68B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2374-C133-4891-81FB-BD1012FC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E1CE-6A4C-4542-8E2D-54A86948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23D50-C105-44BA-92DC-CE00D81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8B17-9B18-4326-B060-F7FADCBC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F9156-CC17-46CB-AC4B-47F25A9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AD91-C9B8-4838-8D9D-1E319293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EF8D-C732-4B1E-B4B2-35C5025C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B6675-5B5B-42D1-930F-E7EE2503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8D2E-005A-4E0D-8E86-BE9DE382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097B-FA18-483F-A50D-245FA51D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D05-DFDE-4EFC-BEFD-3AE61680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D59F-45EC-4D12-9066-6C18C77A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6849-25BB-42C5-B621-BC7E176F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0A2F-2E33-466F-BCA4-7ADF7F3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2630A-422B-4554-9DED-2CFCBCA1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4962-E250-4B82-BB3C-BF514DF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D305-1259-469F-8550-10F6747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3203-9537-48CE-AD4F-4328F1F5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69096-8757-41B9-AB36-857F7080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BD0E-A85F-4C2F-ADB1-7C57BCB2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9173B-E037-4C8F-BBC6-1A905F97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90D-1FC4-4060-9846-FFD8F3A2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707F1-1018-4F4F-BB2A-083034DA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8A189-9018-484A-801B-2E595A2B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4CE7B-3186-4D76-B07A-E3B0B3D8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5FE3-9DCC-49AB-A5B1-B56140A1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0DFA-70EB-4166-A171-A2213766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0B692-5781-4630-ACE1-A485EED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DDD5-9A80-4B2F-BEDD-EDA0B148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E1D4-D33F-4C70-A134-9500AE3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573FF-1408-495C-8105-7C1BE911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66D59-D43E-43B4-8B67-F100E34B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83D-4D7D-4904-8ADF-3591BA4D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402F-260F-4D03-B60F-511FB023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30FEE-1D33-46E4-9EFA-4DE5CB36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7710D-3E29-49F1-99B1-EFE544E7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8A766-45A4-4B50-A327-0F979E6A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D3592-90C7-4BD3-88B2-D113BB51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BCAA6-184F-465D-B648-9E998B94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BE529-4517-4A8D-85C9-222F8DF4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29CD-818B-4D32-9267-D6A67B8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E7B4E-5246-4D17-9697-6D546D5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030E3-F568-46E4-8C62-D6BF9F8F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0BA-3568-4062-AC1F-3EF12121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CB9DC-B05A-4A34-8557-CE7FF6D1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5FDE-9D73-49DE-9B71-1C1ACEB7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AF0E-7655-4980-A317-3BDE736B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4E65-DE28-41F8-8412-F4D5EB7F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4FB43-6930-4D9D-B52D-9DC324DB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AC22C-180A-432B-BD0A-657C924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71705-C0E4-4068-8E07-773ECB4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BCD69-0451-41A9-A4B5-22A65A14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073E0-C3F0-4789-BF64-50D257CE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46591-9CFC-4FBF-9ECE-C6B619A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696-DC8F-45F3-9ECA-4F84050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86E04-01D2-4DFE-A720-E4689E56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ECA52-FE9E-4BCA-BED2-A272101E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C871B-691F-4C31-B9A3-C2FA7905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BBA69-977E-426D-8A38-931F0D9E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693E-F902-4409-A54D-BDB934EE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C5F33-5DEA-48A8-B002-DE51912B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2C9A6-15BC-42D6-B4DC-9CF72040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1E92F-9727-4E12-B6D5-F77A5BB2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95BF-9BC5-402E-86CC-DD2A68F5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79904-AA8B-4721-B154-922E487E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3C2-79C4-4603-B57B-AD10EC32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EC39B-FDCE-4F8D-B8EC-F62D4955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16AAA-5B43-40FE-A4B2-2522893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3CD78-A325-403B-8BCD-C2172A24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14E5B-BC98-47AA-BB1A-7CE5C846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8782D-8B31-42E4-BE89-45DD0A45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8AE69-CCF6-4401-BD12-99286B3D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7913A-E106-448B-949C-197F3573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CF342-F9EF-48CC-B197-7A3FA7B7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451C4-56C8-483C-B586-AE3E02C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16DDF-F2D4-4259-B906-130D7F37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1ED9-62A5-46F3-A70D-36E97F255F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B231-3710-4D2C-9554-23B66F876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BEB0-B717-45D4-A637-567D9FC6E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8C44-9BDE-4810-A337-CE4B9CF27B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7A1A-E697-4CB3-9E6E-A343440FB0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A7AB-1026-4EA5-9289-07AF47B8B1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544F-D322-4D61-8273-2815B78F5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AEFC-8048-4253-B0A1-CE9464077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DA0D-D1A0-4A5F-B3D0-58E9E141C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9BAC-544B-451C-A03A-84424908E2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2D57-5DFD-4EC5-BCC5-0F28EF5207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2136-2B3A-4D9C-9D0F-DF4E7C240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4290-8062-48AF-8E6E-87CF84D83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9266-5D0F-4F2E-B0D9-D909A6BD3D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854B-C360-4887-A559-5B1ED9B2D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F442-95B0-4927-A3D1-379C4AB63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1D36-937E-48D0-B760-3748B7147E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586-03B1-4A41-9005-19FA72153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02A8-7225-437E-B4E1-B04E76AA3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5117-6884-4D50-8CCE-D669AD1FED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C431-CAD3-4BF4-830D-7C1942FB1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2CFE-F80C-40A8-B074-74C3CE1644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4DCB-5C7B-41D0-B163-E3806E23D0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7402-70AB-47AE-B7F4-00EFFC725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CC79-F681-409E-B0A0-4AAF37D68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48DC-2300-4F05-8F7B-9D7C05D60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5F96-4EA3-4998-8A0C-594063694D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5982-9F75-487D-9160-A1788FEF2C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3CD5-984A-4229-BB0D-7CF8A9751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8054-10D1-4076-A5ED-FD6390800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2BB5-AB93-425B-ACD0-EC1853580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916B-5131-4405-A91F-1EE452197D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BEE8-AD1A-441C-90BF-3FAB0D2998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6E49-367F-4EDC-90B3-69255E60E5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207C-F3AE-4563-B9A5-E2B54F4701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DAF2-FA3F-412D-9C04-371BD2F5CD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74A-CD99-4C4A-9F70-95C6AEDEF8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293C-3147-498A-AA7E-9F7E9AC3B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43C7-DEB4-42E6-BBBD-21577CE3B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719F-B169-4DA5-BE8F-4BEEC18C06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DE6D-96CC-4A2B-8529-66B7F62D1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8AC-92BD-4816-B192-1C07797F2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61920" y="2943360"/>
            <a:ext cx="72201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90360" y="777960"/>
            <a:ext cx="1714680" cy="39060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228600" y="1285920"/>
            <a:ext cx="8686800" cy="48196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468360" y="198900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539640" y="306864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468360" y="407664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539640" y="4778280"/>
            <a:ext cx="3589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90360" y="1781280"/>
            <a:ext cx="8961480" cy="3295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2700360" y="3017880"/>
            <a:ext cx="129528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2340000" y="3367080"/>
            <a:ext cx="71928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2627280" y="371628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2556000" y="406404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2340000" y="4762440"/>
            <a:ext cx="1584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95400" y="1162080"/>
            <a:ext cx="8953200" cy="45338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1187280" y="1887480"/>
            <a:ext cx="230508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826920" y="257508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3564000" y="258444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1476360" y="2924280"/>
            <a:ext cx="187164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1403280" y="3625920"/>
            <a:ext cx="187164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7"/>
          <a:stretch/>
        </p:blipFill>
        <p:spPr>
          <a:xfrm>
            <a:off x="1332000" y="4653000"/>
            <a:ext cx="251928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8"/>
          <a:stretch/>
        </p:blipFill>
        <p:spPr>
          <a:xfrm>
            <a:off x="539640" y="5354640"/>
            <a:ext cx="4392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19160" y="1481040"/>
            <a:ext cx="8904240" cy="38959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539640" y="2195640"/>
            <a:ext cx="532764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468360" y="2890800"/>
            <a:ext cx="532764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532764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468360" y="4282920"/>
            <a:ext cx="532764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395280" y="4979880"/>
            <a:ext cx="5327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0:4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